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8898-3717-42F8-8C23-9C98C662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DC17-CC93-4000-B57B-3922D625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46FE-E00B-428D-A6C2-475E0D3E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F759-5A17-4444-AD9C-86C33FE4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9F73-3C71-4B2D-B16B-FBF34664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D875-2791-4A12-93A3-5AD0CA1E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B6DD-20D9-4E5E-ADE3-C369D2FD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ECA3-9013-4144-AC4F-1F77DE5E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1101-6812-4C25-BEBE-90E6F735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A0EA-C151-4EF9-AB2C-E59D2D75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5A4D-3DFF-481E-A45B-B09DB220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009B-E83F-4A2A-A7D7-9390B2FC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8858-CA71-4354-9C31-486D9807C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2/AverroesColor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upload.wikimedia.org/wikipedia/commons/b/bc/Avicenna_Persian_Physician.jpg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en.wikipedia.org/wiki/File:Old.Sorbonne.1670.before.fire.jp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iddle 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nges in Medieval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. Paglia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rban Life Flouris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e: Increased pop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se of towns-Settled around trade fairs ne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ssro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v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l lords profit: taxes, tolls, r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rg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ters of libe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zards: fire, diseas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own air makes you f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195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val of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ical libraries in Byzantine Empire and Muslim Sp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ined Greek texts 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ilosophy (esp. Plato &amp; Aristot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jor influ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slim scholars Ibn Sina and Ibn Rush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anish rabbi, Moses Maimonid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File:AverroesColo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2895480"/>
            <a:ext cx="2590920" cy="2032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File:Avicenna Persian Physicia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21520" y="0"/>
            <a:ext cx="2022480" cy="2886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7443720" y="4648320"/>
            <a:ext cx="1700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dieval Univers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niversity: Bologna, Ital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Western Europe: Par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luenced Oxford &amp; Cambridge, which influenced 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s-Formed guilds, determined curriculum, rented halls for members, usually arranged by nation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-Regularly monks, Taught by lecture, usually in rented halls or chur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iculum: Liberal A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grees: Bachelors, Masters, Docto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95280" y="2016000"/>
            <a:ext cx="6248520" cy="484200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0" y="2514600"/>
            <a:ext cx="9144000" cy="4343400"/>
            <a:chOff x="0" y="2514600"/>
            <a:chExt cx="9144000" cy="4343400"/>
          </a:xfrm>
        </p:grpSpPr>
        <p:pic>
          <p:nvPicPr>
            <p:cNvPr id="76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2971800"/>
              <a:ext cx="5257800" cy="22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File:Oxsky.jpg"/>
            <p:cNvPicPr/>
            <p:nvPr/>
          </p:nvPicPr>
          <p:blipFill>
            <a:blip r:embed="rId4"/>
            <a:stretch/>
          </p:blipFill>
          <p:spPr>
            <a:xfrm>
              <a:off x="5105520" y="2514600"/>
              <a:ext cx="4038480" cy="302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File:Cam colls from johns.jpg"/>
            <p:cNvPicPr/>
            <p:nvPr/>
          </p:nvPicPr>
          <p:blipFill>
            <a:blip r:embed="rId5"/>
            <a:stretch/>
          </p:blipFill>
          <p:spPr>
            <a:xfrm>
              <a:off x="1523880" y="4952880"/>
              <a:ext cx="4572000" cy="1905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5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olastic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ication of Aristotle’s logic to Biblical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ru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ught unity betwee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IG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A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mas Aquinas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umma Theologic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cal influences in law and modern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04920" y="4267080"/>
            <a:ext cx="8458200" cy="2590920"/>
            <a:chOff x="304920" y="4267080"/>
            <a:chExt cx="8458200" cy="2590920"/>
          </a:xfrm>
        </p:grpSpPr>
        <p:grpSp>
          <p:nvGrpSpPr>
            <p:cNvPr id="82" name=""/>
            <p:cNvGrpSpPr/>
            <p:nvPr/>
          </p:nvGrpSpPr>
          <p:grpSpPr>
            <a:xfrm>
              <a:off x="304920" y="4267080"/>
              <a:ext cx="1700280" cy="2590920"/>
              <a:chOff x="304920" y="4267080"/>
              <a:chExt cx="1700280" cy="2590920"/>
            </a:xfrm>
          </p:grpSpPr>
          <p:pic>
            <p:nvPicPr>
              <p:cNvPr id="83" name="" descr="File:St-thomas-aquinas.jpg"/>
              <p:cNvPicPr/>
              <p:nvPr/>
            </p:nvPicPr>
            <p:blipFill>
              <a:blip r:embed="rId1"/>
              <a:stretch/>
            </p:blipFill>
            <p:spPr>
              <a:xfrm>
                <a:off x="304920" y="4267080"/>
                <a:ext cx="1700280" cy="259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 txBox="1"/>
              <p:nvPr/>
            </p:nvSpPr>
            <p:spPr>
              <a:xfrm>
                <a:off x="381240" y="6172200"/>
                <a:ext cx="1600200" cy="685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Thomas Aquinas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3353040" y="4419720"/>
              <a:ext cx="2342880" cy="2438280"/>
              <a:chOff x="3353040" y="4419720"/>
              <a:chExt cx="2342880" cy="2438280"/>
            </a:xfrm>
          </p:grpSpPr>
          <p:pic>
            <p:nvPicPr>
              <p:cNvPr id="86" name="" descr="File:AlbertusMagnus.jpg"/>
              <p:cNvPicPr/>
              <p:nvPr/>
            </p:nvPicPr>
            <p:blipFill>
              <a:blip r:embed="rId2"/>
              <a:stretch/>
            </p:blipFill>
            <p:spPr>
              <a:xfrm>
                <a:off x="3370320" y="4419720"/>
                <a:ext cx="2316240" cy="243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 txBox="1"/>
              <p:nvPr/>
            </p:nvSpPr>
            <p:spPr>
              <a:xfrm>
                <a:off x="3353040" y="6210360"/>
                <a:ext cx="2342880" cy="647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lbertus Magnus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6400800" y="4519440"/>
              <a:ext cx="2362320" cy="2338560"/>
              <a:chOff x="6400800" y="4519440"/>
              <a:chExt cx="2362320" cy="2338560"/>
            </a:xfrm>
          </p:grpSpPr>
          <p:pic>
            <p:nvPicPr>
              <p:cNvPr id="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00800" y="4519440"/>
                <a:ext cx="2362320" cy="23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 txBox="1"/>
              <p:nvPr/>
            </p:nvSpPr>
            <p:spPr>
              <a:xfrm>
                <a:off x="6477120" y="6210360"/>
                <a:ext cx="2286000" cy="647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Roger Bacon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rnacular Lit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nte-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Divine Comed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Ital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belais-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argantua &amp; Pantagrue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Fre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rvantes-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on Quixo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Span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3424320"/>
            <a:ext cx="3214800" cy="3433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800600" y="3597120"/>
            <a:ext cx="434340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it matters n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nges in the Middle Ages laid the foundations for modern Europe and America in terms of trade, the capitalist economics, and colleges and univers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id guilds change the way business was conducted and products were mad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id increase trade affect serfs? Nobles? Mercha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were towns so influential in the social changes of the High Middle Ag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id the Crusades influence the expansion of learning in the Middle Ag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might most students in Medieval universities come from the merchant clas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ristotle’s Childr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benstein, Richard E..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ristotle's Children: How Christians, Muslims, and Jews Rediscovered Ancient Wisdom and Illuminated the Dark Ag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1. Harvest Books , 200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86400" y="3505320"/>
            <a:ext cx="22334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in Id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nomic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eudal system and manorial economy declined as agriculture, trade, finance, towns, and universities develop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rm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ree-field syst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ui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mercial Revolu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rgh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ernacul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holastics/scholastic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m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bn Rushd (Averro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bn Sina (Avicenn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omas Aquin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pages 387-392:Use a diagram like the one below to identify changes in medieval socie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ounded Rectangle 3"/>
          <p:cNvSpPr/>
          <p:nvPr/>
        </p:nvSpPr>
        <p:spPr>
          <a:xfrm>
            <a:off x="2971800" y="2819520"/>
            <a:ext cx="3733920" cy="1371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hanges in Medieval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ight Arrow Callout 4"/>
          <p:cNvSpPr/>
          <p:nvPr/>
        </p:nvSpPr>
        <p:spPr>
          <a:xfrm rot="895800">
            <a:off x="813960" y="1654200"/>
            <a:ext cx="2438640" cy="1905120"/>
          </a:xfrm>
          <a:prstGeom prst="rightArrowCallout">
            <a:avLst>
              <a:gd name="adj1" fmla="val 25002"/>
              <a:gd name="adj2" fmla="val 25000"/>
              <a:gd name="adj3" fmla="val 25002"/>
              <a:gd name="adj4" fmla="val 64977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rowing Food Su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Right Arrow Callout 5" descr=""/>
          <p:cNvPicPr/>
          <p:nvPr/>
        </p:nvPicPr>
        <p:blipFill>
          <a:blip r:embed="rId1"/>
          <a:stretch/>
        </p:blipFill>
        <p:spPr>
          <a:xfrm>
            <a:off x="3565440" y="1047600"/>
            <a:ext cx="1940040" cy="1884600"/>
          </a:xfrm>
          <a:prstGeom prst="rect">
            <a:avLst/>
          </a:prstGeom>
          <a:ln w="0">
            <a:noFill/>
          </a:ln>
        </p:spPr>
      </p:pic>
      <p:sp>
        <p:nvSpPr>
          <p:cNvPr id="51" name="Right Arrow Callout 6"/>
          <p:cNvSpPr/>
          <p:nvPr/>
        </p:nvSpPr>
        <p:spPr>
          <a:xfrm rot="19999800">
            <a:off x="831960" y="3722400"/>
            <a:ext cx="2438280" cy="1904760"/>
          </a:xfrm>
          <a:prstGeom prst="right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vival of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ight Arrow Callout 7"/>
          <p:cNvSpPr/>
          <p:nvPr/>
        </p:nvSpPr>
        <p:spPr>
          <a:xfrm rot="14190600">
            <a:off x="5581440" y="3790440"/>
            <a:ext cx="2438280" cy="1905120"/>
          </a:xfrm>
          <a:prstGeom prst="rightArrowCallout">
            <a:avLst>
              <a:gd name="adj1" fmla="val 25002"/>
              <a:gd name="adj2" fmla="val 25000"/>
              <a:gd name="adj3" fmla="val 24999"/>
              <a:gd name="adj4" fmla="val 6497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rban life Flouris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Right Arrow Callout 8" descr=""/>
          <p:cNvPicPr/>
          <p:nvPr/>
        </p:nvPicPr>
        <p:blipFill>
          <a:blip r:embed="rId2"/>
          <a:stretch/>
        </p:blipFill>
        <p:spPr>
          <a:xfrm>
            <a:off x="6218280" y="969840"/>
            <a:ext cx="26938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rowing Food Supp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mer Clim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ores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ru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rsesho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rse col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wheels/Windm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field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-Field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-Field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rcial R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ey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n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 fa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act on busines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act on manor/tow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process to become a master craftsm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ps in a t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ttributes contributed to a family surname (last name) during the middle ag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aft Gui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21:55:00Z</dcterms:created>
  <dc:creator> </dc:creator>
  <dc:description/>
  <dc:language>en-US</dc:language>
  <cp:lastModifiedBy>cpagliaro</cp:lastModifiedBy>
  <dcterms:modified xsi:type="dcterms:W3CDTF">2010-04-09T18:00:39Z</dcterms:modified>
  <cp:revision>10</cp:revision>
  <dc:subject/>
  <dc:title>Slide 1</dc:title>
</cp:coreProperties>
</file>